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38.jpeg" ContentType="image/jpeg"/>
  <Override PartName="/ppt/media/image7.png" ContentType="image/png"/>
  <Override PartName="/ppt/media/image12.png" ContentType="image/png"/>
  <Override PartName="/ppt/media/image45.jpeg" ContentType="image/jpeg"/>
  <Override PartName="/ppt/media/image9.png" ContentType="image/png"/>
  <Override PartName="/ppt/media/image40.jpeg" ContentType="image/jpeg"/>
  <Override PartName="/ppt/media/image44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1.png" ContentType="image/png"/>
  <Override PartName="/ppt/media/image39.jpeg" ContentType="image/jpeg"/>
  <Override PartName="/ppt/media/image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3.png" ContentType="image/png"/>
  <Override PartName="/ppt/media/image5.png" ContentType="image/png"/>
  <Override PartName="/ppt/media/image4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994F-E0FC-425B-B69F-33396F85106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946E-8D8F-4851-BE0B-5DA91D0BB28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BE26-0FBB-410E-BC49-41248AC3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59A9-2252-422C-9CD8-704F7C37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6CCC-1FA2-4262-A7AD-724363302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FF0D-CF94-4F76-8A4A-417473478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FB5C-4A0F-495A-8F23-7792680B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CAF1-FE19-4FA7-84BC-091382ED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28A2-B346-4136-ACDB-50A705BF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858F-C7CD-4424-916E-041D8B33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7A83-8216-4020-B1E9-4319DB1C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52B6-0BDE-48CB-B1F3-394AB0B4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0517-C556-49FB-9F10-FC17A899D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7FE7-72BD-466B-87C8-C3B8C6D2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6A8E-18EB-468B-A358-EA82B425D18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image" Target="../media/image2.pn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hyperlink" Target="http://hof.povray.org/" TargetMode="External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785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fika 3D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4214880"/>
            <a:ext cx="692928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bacc6"/>
                </a:solidFill>
                <a:latin typeface="Times New Roman"/>
                <a:ea typeface="Times New Roman"/>
              </a:rPr>
              <a:t>Podsumowanie omówionych zagadnie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ole tekstowe 4"/>
          <p:cNvSpPr/>
          <p:nvPr/>
        </p:nvSpPr>
        <p:spPr>
          <a:xfrm>
            <a:off x="446400" y="357120"/>
            <a:ext cx="47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kład z grafiki komputerowej II (3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cek Matulewski (e-mail: </a:t>
            </a: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jacek@fizyka.umk.pl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http://www.fizyka.umk.pl/~jacek/dydaktyka/3d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ole tekstowe 4"/>
          <p:cNvSpPr/>
          <p:nvPr/>
        </p:nvSpPr>
        <p:spPr>
          <a:xfrm>
            <a:off x="6216480" y="628668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rsja: </a:t>
            </a: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15 listopada 2007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14200" y="1428840"/>
            <a:ext cx="85010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ładowe RGB + A (atrybut figury), alternatywa HS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650 nm, </a:t>
            </a:r>
            <a:r>
              <a:rPr b="0" lang="pl-PL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G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530 nm,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B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450 n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Obraz 14" descr="widmo_odwrocone.bmp"/>
          <p:cNvPicPr/>
          <p:nvPr/>
        </p:nvPicPr>
        <p:blipFill>
          <a:blip r:embed="rId1"/>
          <a:stretch/>
        </p:blipFill>
        <p:spPr>
          <a:xfrm>
            <a:off x="714240" y="2500200"/>
            <a:ext cx="5695920" cy="971640"/>
          </a:xfrm>
          <a:prstGeom prst="rect">
            <a:avLst/>
          </a:prstGeom>
          <a:ln w="0">
            <a:noFill/>
          </a:ln>
        </p:spPr>
      </p:pic>
      <p:pic>
        <p:nvPicPr>
          <p:cNvPr id="115" name="Obraz 15" descr="06 Cieniowanie.bmp"/>
          <p:cNvPicPr/>
          <p:nvPr/>
        </p:nvPicPr>
        <p:blipFill>
          <a:blip r:embed="rId2"/>
          <a:stretch/>
        </p:blipFill>
        <p:spPr>
          <a:xfrm>
            <a:off x="571680" y="4143240"/>
            <a:ext cx="4101840" cy="2357640"/>
          </a:xfrm>
          <a:prstGeom prst="rect">
            <a:avLst/>
          </a:prstGeom>
          <a:ln w="0">
            <a:noFill/>
          </a:ln>
        </p:spPr>
      </p:pic>
      <p:sp>
        <p:nvSpPr>
          <p:cNvPr id="116" name="pole tekstowe 17"/>
          <p:cNvSpPr/>
          <p:nvPr/>
        </p:nvSpPr>
        <p:spPr>
          <a:xfrm>
            <a:off x="298440" y="3571920"/>
            <a:ext cx="821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żliwość cieniowania wewnątrz figury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(atrybut wierzchołkó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9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7120" y="1285920"/>
            <a:ext cx="87868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e układy wsp. kolorów: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Y(K), HSB, YPbPr, CIE xyY, CIE LUV, CIE La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blioteka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olormaps.cpp/.h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[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bejrzeć kod!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ole tekstowe 18"/>
          <p:cNvSpPr/>
          <p:nvPr/>
        </p:nvSpPr>
        <p:spPr>
          <a:xfrm>
            <a:off x="440280" y="3000240"/>
            <a:ext cx="785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GB  –  dobre dla monitorów, TV (emisja światła),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odpowiada fizjologii o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Y(K) = 1 – RGB  – drukarki (absorpcja światł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upa 6"/>
          <p:cNvGrpSpPr/>
          <p:nvPr/>
        </p:nvGrpSpPr>
        <p:grpSpPr>
          <a:xfrm>
            <a:off x="714240" y="4643280"/>
            <a:ext cx="3838680" cy="1828800"/>
            <a:chOff x="714240" y="4643280"/>
            <a:chExt cx="3838680" cy="1828800"/>
          </a:xfrm>
        </p:grpSpPr>
        <p:pic>
          <p:nvPicPr>
            <p:cNvPr id="121" name="Obraz 11" descr="192px-AdditiveColor_svg.png"/>
            <p:cNvPicPr/>
            <p:nvPr/>
          </p:nvPicPr>
          <p:blipFill>
            <a:blip r:embed="rId1"/>
            <a:stretch/>
          </p:blipFill>
          <p:spPr>
            <a:xfrm>
              <a:off x="714240" y="4643280"/>
              <a:ext cx="182880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Obraz 12" descr="CMY.bmp"/>
            <p:cNvPicPr/>
            <p:nvPr/>
          </p:nvPicPr>
          <p:blipFill>
            <a:blip r:embed="rId2"/>
            <a:stretch/>
          </p:blipFill>
          <p:spPr>
            <a:xfrm>
              <a:off x="2714400" y="4643280"/>
              <a:ext cx="1838520" cy="1828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13840" y="1428840"/>
            <a:ext cx="89298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SB (HSV, HSL) –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e, saturation, brightness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valu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lightness, lumina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dziej intuicyjne, używane w interakcji z człowiek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Grupa 13"/>
          <p:cNvGrpSpPr/>
          <p:nvPr/>
        </p:nvGrpSpPr>
        <p:grpSpPr>
          <a:xfrm>
            <a:off x="357120" y="3143160"/>
            <a:ext cx="8553600" cy="3353040"/>
            <a:chOff x="357120" y="3143160"/>
            <a:chExt cx="8553600" cy="3353040"/>
          </a:xfrm>
        </p:grpSpPr>
        <p:pic>
          <p:nvPicPr>
            <p:cNvPr id="126" name="Obraz 7" descr="Okno dialogowe HSB.bmp"/>
            <p:cNvPicPr/>
            <p:nvPr/>
          </p:nvPicPr>
          <p:blipFill>
            <a:blip r:embed="rId1"/>
            <a:stretch/>
          </p:blipFill>
          <p:spPr>
            <a:xfrm>
              <a:off x="4500720" y="3214440"/>
              <a:ext cx="4410000" cy="319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Obraz 12" descr="RGB2HSV.bmp"/>
            <p:cNvPicPr/>
            <p:nvPr/>
          </p:nvPicPr>
          <p:blipFill>
            <a:blip r:embed="rId2"/>
            <a:stretch/>
          </p:blipFill>
          <p:spPr>
            <a:xfrm>
              <a:off x="357120" y="3143160"/>
              <a:ext cx="3942720" cy="3353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8" name="Obraz 14" descr="HSV_cone.jpg"/>
          <p:cNvPicPr/>
          <p:nvPr/>
        </p:nvPicPr>
        <p:blipFill>
          <a:blip r:embed="rId3"/>
          <a:stretch/>
        </p:blipFill>
        <p:spPr>
          <a:xfrm>
            <a:off x="1643040" y="3143160"/>
            <a:ext cx="570708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1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zyka i biologia kolor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42848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ładowe RGB + A (atrybut figury), alternatywa HS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650 nm, </a:t>
            </a:r>
            <a:r>
              <a:rPr b="0" lang="pl-PL" sz="28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G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530 nm,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B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450 n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Grupa 13"/>
          <p:cNvGrpSpPr/>
          <p:nvPr/>
        </p:nvGrpSpPr>
        <p:grpSpPr>
          <a:xfrm>
            <a:off x="357120" y="2643120"/>
            <a:ext cx="8501040" cy="3929040"/>
            <a:chOff x="357120" y="2643120"/>
            <a:chExt cx="8501040" cy="3929040"/>
          </a:xfrm>
        </p:grpSpPr>
        <p:grpSp>
          <p:nvGrpSpPr>
            <p:cNvPr id="132" name="Grupa 6"/>
            <p:cNvGrpSpPr/>
            <p:nvPr/>
          </p:nvGrpSpPr>
          <p:grpSpPr>
            <a:xfrm>
              <a:off x="357120" y="3786120"/>
              <a:ext cx="4214880" cy="2786040"/>
              <a:chOff x="357120" y="3786120"/>
              <a:chExt cx="4214880" cy="2786040"/>
            </a:xfrm>
          </p:grpSpPr>
          <p:sp>
            <p:nvSpPr>
              <p:cNvPr id="133" name="Prostokąt 5"/>
              <p:cNvSpPr/>
              <p:nvPr/>
            </p:nvSpPr>
            <p:spPr>
              <a:xfrm>
                <a:off x="357120" y="3786120"/>
                <a:ext cx="4214880" cy="27860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4" name="Obraz 4" descr="cz-oka-wykres1a.gif"/>
              <p:cNvPicPr/>
              <p:nvPr/>
            </p:nvPicPr>
            <p:blipFill>
              <a:blip r:embed="rId1"/>
              <a:stretch/>
            </p:blipFill>
            <p:spPr>
              <a:xfrm>
                <a:off x="571320" y="3907080"/>
                <a:ext cx="3810240" cy="2527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5" name="Grupa 11"/>
            <p:cNvGrpSpPr/>
            <p:nvPr/>
          </p:nvGrpSpPr>
          <p:grpSpPr>
            <a:xfrm>
              <a:off x="4643280" y="3786120"/>
              <a:ext cx="4214880" cy="2786040"/>
              <a:chOff x="4643280" y="3786120"/>
              <a:chExt cx="4214880" cy="2786040"/>
            </a:xfrm>
          </p:grpSpPr>
          <p:sp>
            <p:nvSpPr>
              <p:cNvPr id="136" name="Prostokąt 8"/>
              <p:cNvSpPr/>
              <p:nvPr/>
            </p:nvSpPr>
            <p:spPr>
              <a:xfrm>
                <a:off x="4643280" y="3786120"/>
                <a:ext cx="4214880" cy="27860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7" name="Obraz 10" descr="cz-oka-wykres2a.gif"/>
              <p:cNvPicPr/>
              <p:nvPr/>
            </p:nvPicPr>
            <p:blipFill>
              <a:blip r:embed="rId2"/>
              <a:stretch/>
            </p:blipFill>
            <p:spPr>
              <a:xfrm>
                <a:off x="4857480" y="3907080"/>
                <a:ext cx="3810240" cy="2527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8" name="Obraz 11" descr="widmo.bmp"/>
            <p:cNvPicPr/>
            <p:nvPr/>
          </p:nvPicPr>
          <p:blipFill>
            <a:blip r:embed="rId3"/>
            <a:stretch/>
          </p:blipFill>
          <p:spPr>
            <a:xfrm>
              <a:off x="1071360" y="2643120"/>
              <a:ext cx="307188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Obraz 12" descr="widmo.bmp"/>
            <p:cNvPicPr/>
            <p:nvPr/>
          </p:nvPicPr>
          <p:blipFill>
            <a:blip r:embed="rId4"/>
            <a:stretch/>
          </p:blipFill>
          <p:spPr>
            <a:xfrm>
              <a:off x="5286240" y="2643120"/>
              <a:ext cx="3071880" cy="97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13840" y="1285560"/>
            <a:ext cx="89298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zyczny model oświetlenia – na efekt końcowy (tj. kolor piksela) wpływają „własności emisyjne”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źródła światła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„własności absorpcyjne”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ateriału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który jest oświetlany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własności ewentualnych ciał półprzezroczyst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Światło (cieniowani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ole tekstowe 3"/>
          <p:cNvSpPr/>
          <p:nvPr/>
        </p:nvSpPr>
        <p:spPr>
          <a:xfrm>
            <a:off x="285840" y="3786120"/>
            <a:ext cx="885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y źródeł oświetlen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Światło otoczenia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mbient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bez źródła i kierunku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– rozświetla jednorodnie całą scenę, także wewnątrz figur)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– nie daje cieni na obiekcie (nie ma złudzenia 3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ole tekstowe 4"/>
          <p:cNvSpPr/>
          <p:nvPr/>
        </p:nvSpPr>
        <p:spPr>
          <a:xfrm>
            <a:off x="285840" y="3786120"/>
            <a:ext cx="8858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y źródeł oświetlen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Światło otoczenia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mbient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proszone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diffus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posiada źródło, ale jest jednorodne 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we wszystkich kierunk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nie: Jasność proporcjonalna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do kosinusa kąta padania (normal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Obraz 7" descr="rozproszenie.bmp"/>
          <p:cNvPicPr/>
          <p:nvPr/>
        </p:nvPicPr>
        <p:blipFill>
          <a:blip r:embed="rId1"/>
          <a:stretch/>
        </p:blipFill>
        <p:spPr>
          <a:xfrm>
            <a:off x="6143760" y="5286240"/>
            <a:ext cx="2705040" cy="1409760"/>
          </a:xfrm>
          <a:prstGeom prst="rect">
            <a:avLst/>
          </a:prstGeom>
          <a:ln w="0">
            <a:noFill/>
          </a:ln>
        </p:spPr>
      </p:pic>
      <p:sp>
        <p:nvSpPr>
          <p:cNvPr id="145" name="pole tekstowe 9"/>
          <p:cNvSpPr/>
          <p:nvPr/>
        </p:nvSpPr>
        <p:spPr>
          <a:xfrm>
            <a:off x="285840" y="3786120"/>
            <a:ext cx="8858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y źródeł oświetlen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Światło otoczenia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mbient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proszone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diffus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błysk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pecular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źródło i kieru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lektor, efekt „zajączka” – rozbłysku na gładkich p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upa 12"/>
          <p:cNvGrpSpPr/>
          <p:nvPr/>
        </p:nvGrpSpPr>
        <p:grpSpPr>
          <a:xfrm>
            <a:off x="6000840" y="3571920"/>
            <a:ext cx="2896920" cy="1471680"/>
            <a:chOff x="6000840" y="3571920"/>
            <a:chExt cx="2896920" cy="1471680"/>
          </a:xfrm>
        </p:grpSpPr>
        <p:pic>
          <p:nvPicPr>
            <p:cNvPr id="147" name="Obraz 10" descr="rozblysk_szescian.bmp"/>
            <p:cNvPicPr/>
            <p:nvPr/>
          </p:nvPicPr>
          <p:blipFill>
            <a:blip r:embed="rId2"/>
            <a:stretch/>
          </p:blipFill>
          <p:spPr>
            <a:xfrm>
              <a:off x="7572600" y="3571920"/>
              <a:ext cx="1325160" cy="144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Obraz 11" descr="Specular_highlight.jpg"/>
            <p:cNvPicPr/>
            <p:nvPr/>
          </p:nvPicPr>
          <p:blipFill>
            <a:blip r:embed="rId3"/>
            <a:stretch/>
          </p:blipFill>
          <p:spPr>
            <a:xfrm>
              <a:off x="6000840" y="3571920"/>
              <a:ext cx="1471680" cy="1471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9" name="Obraz 13" descr="Phong_ambient.bmp"/>
          <p:cNvPicPr/>
          <p:nvPr/>
        </p:nvPicPr>
        <p:blipFill>
          <a:blip r:embed="rId4"/>
          <a:stretch/>
        </p:blipFill>
        <p:spPr>
          <a:xfrm>
            <a:off x="428760" y="1500120"/>
            <a:ext cx="1485720" cy="1362240"/>
          </a:xfrm>
          <a:prstGeom prst="rect">
            <a:avLst/>
          </a:prstGeom>
          <a:ln w="0">
            <a:noFill/>
          </a:ln>
        </p:spPr>
      </p:pic>
      <p:pic>
        <p:nvPicPr>
          <p:cNvPr id="150" name="Obraz 14" descr="Phong_diffuse.bmp"/>
          <p:cNvPicPr/>
          <p:nvPr/>
        </p:nvPicPr>
        <p:blipFill>
          <a:blip r:embed="rId5"/>
          <a:stretch/>
        </p:blipFill>
        <p:spPr>
          <a:xfrm>
            <a:off x="2571840" y="1500120"/>
            <a:ext cx="1485720" cy="1371600"/>
          </a:xfrm>
          <a:prstGeom prst="rect">
            <a:avLst/>
          </a:prstGeom>
          <a:ln w="0">
            <a:noFill/>
          </a:ln>
        </p:spPr>
      </p:pic>
      <p:pic>
        <p:nvPicPr>
          <p:cNvPr id="151" name="Obraz 15" descr="Phong_specular.bmp"/>
          <p:cNvPicPr/>
          <p:nvPr/>
        </p:nvPicPr>
        <p:blipFill>
          <a:blip r:embed="rId6"/>
          <a:stretch/>
        </p:blipFill>
        <p:spPr>
          <a:xfrm>
            <a:off x="4643280" y="1500120"/>
            <a:ext cx="1495440" cy="1362240"/>
          </a:xfrm>
          <a:prstGeom prst="rect">
            <a:avLst/>
          </a:prstGeom>
          <a:ln w="0">
            <a:noFill/>
          </a:ln>
        </p:spPr>
      </p:pic>
      <p:grpSp>
        <p:nvGrpSpPr>
          <p:cNvPr id="152" name="Grupa 22"/>
          <p:cNvGrpSpPr/>
          <p:nvPr/>
        </p:nvGrpSpPr>
        <p:grpSpPr>
          <a:xfrm>
            <a:off x="2009160" y="1500120"/>
            <a:ext cx="6449040" cy="1381320"/>
            <a:chOff x="2009160" y="1500120"/>
            <a:chExt cx="6449040" cy="1381320"/>
          </a:xfrm>
        </p:grpSpPr>
        <p:pic>
          <p:nvPicPr>
            <p:cNvPr id="153" name="Obraz 17" descr="Phong_complete.bmp"/>
            <p:cNvPicPr/>
            <p:nvPr/>
          </p:nvPicPr>
          <p:blipFill>
            <a:blip r:embed="rId7"/>
            <a:stretch/>
          </p:blipFill>
          <p:spPr>
            <a:xfrm>
              <a:off x="7000920" y="1500120"/>
              <a:ext cx="1457280" cy="13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pole tekstowe 18"/>
            <p:cNvSpPr/>
            <p:nvPr/>
          </p:nvSpPr>
          <p:spPr>
            <a:xfrm>
              <a:off x="2009160" y="1785960"/>
              <a:ext cx="525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pole tekstowe 19"/>
            <p:cNvSpPr/>
            <p:nvPr/>
          </p:nvSpPr>
          <p:spPr>
            <a:xfrm>
              <a:off x="4080960" y="1785960"/>
              <a:ext cx="525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+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pole tekstowe 20"/>
            <p:cNvSpPr/>
            <p:nvPr/>
          </p:nvSpPr>
          <p:spPr>
            <a:xfrm>
              <a:off x="6290280" y="1785960"/>
              <a:ext cx="525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=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pole tekstowe 23"/>
          <p:cNvSpPr/>
          <p:nvPr/>
        </p:nvSpPr>
        <p:spPr>
          <a:xfrm>
            <a:off x="285840" y="3786120"/>
            <a:ext cx="8858160" cy="29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y źródeł oświetlen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Światło otoczenia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mbient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światło słoneczn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w białym pomieszczen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proszone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diffus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mleczna żarówka, świe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błysk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pecular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reflektor, odbicie od lus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a każdego typu parametry materiału ustalane są osob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1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9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4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8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1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5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9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 oświetlenia Phon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Grupa 22"/>
          <p:cNvGrpSpPr/>
          <p:nvPr/>
        </p:nvGrpSpPr>
        <p:grpSpPr>
          <a:xfrm>
            <a:off x="428760" y="1500120"/>
            <a:ext cx="8029440" cy="1381320"/>
            <a:chOff x="428760" y="1500120"/>
            <a:chExt cx="8029440" cy="1381320"/>
          </a:xfrm>
        </p:grpSpPr>
        <p:pic>
          <p:nvPicPr>
            <p:cNvPr id="160" name="Obraz 14" descr="Phong_ambient.bmp"/>
            <p:cNvPicPr/>
            <p:nvPr/>
          </p:nvPicPr>
          <p:blipFill>
            <a:blip r:embed="rId1"/>
            <a:stretch/>
          </p:blipFill>
          <p:spPr>
            <a:xfrm>
              <a:off x="428760" y="1500120"/>
              <a:ext cx="1485720" cy="136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Obraz 15" descr="Phong_diffuse.bmp"/>
            <p:cNvPicPr/>
            <p:nvPr/>
          </p:nvPicPr>
          <p:blipFill>
            <a:blip r:embed="rId2"/>
            <a:stretch/>
          </p:blipFill>
          <p:spPr>
            <a:xfrm>
              <a:off x="2571840" y="1500120"/>
              <a:ext cx="1485720" cy="137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Obraz 16" descr="Phong_specular.bmp"/>
            <p:cNvPicPr/>
            <p:nvPr/>
          </p:nvPicPr>
          <p:blipFill>
            <a:blip r:embed="rId3"/>
            <a:stretch/>
          </p:blipFill>
          <p:spPr>
            <a:xfrm>
              <a:off x="4643640" y="1500120"/>
              <a:ext cx="1495440" cy="13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3" name="Grupa 17"/>
            <p:cNvGrpSpPr/>
            <p:nvPr/>
          </p:nvGrpSpPr>
          <p:grpSpPr>
            <a:xfrm>
              <a:off x="2009160" y="1500120"/>
              <a:ext cx="6449040" cy="1381320"/>
              <a:chOff x="2009160" y="1500120"/>
              <a:chExt cx="6449040" cy="1381320"/>
            </a:xfrm>
          </p:grpSpPr>
          <p:pic>
            <p:nvPicPr>
              <p:cNvPr id="164" name="Obraz 18" descr="Phong_complete.bmp"/>
              <p:cNvPicPr/>
              <p:nvPr/>
            </p:nvPicPr>
            <p:blipFill>
              <a:blip r:embed="rId4"/>
              <a:stretch/>
            </p:blipFill>
            <p:spPr>
              <a:xfrm>
                <a:off x="7000920" y="1500120"/>
                <a:ext cx="1457280" cy="138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pole tekstowe 19"/>
              <p:cNvSpPr/>
              <p:nvPr/>
            </p:nvSpPr>
            <p:spPr>
              <a:xfrm>
                <a:off x="2009160" y="1785960"/>
                <a:ext cx="525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4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pole tekstowe 20"/>
              <p:cNvSpPr/>
              <p:nvPr/>
            </p:nvSpPr>
            <p:spPr>
              <a:xfrm>
                <a:off x="4080960" y="1785960"/>
                <a:ext cx="525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4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pole tekstowe 21"/>
              <p:cNvSpPr/>
              <p:nvPr/>
            </p:nvSpPr>
            <p:spPr>
              <a:xfrm>
                <a:off x="6290280" y="1785960"/>
                <a:ext cx="525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4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=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" name="pole tekstowe 23"/>
          <p:cNvSpPr/>
          <p:nvPr/>
        </p:nvSpPr>
        <p:spPr>
          <a:xfrm>
            <a:off x="456120" y="3286080"/>
            <a:ext cx="8390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racowany w 1975 przez Phong Bui-Tuon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st jedynie zgrubnym przybliżeniem praw opty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kłada trzy niezależne komponenty odbitego światł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Światło rozproszone – model Lamberta (17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 cieniowania Phonga (coś innego niż model ośw.)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= interpolacja normalnych (uśrednianie normalny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 Lambe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13840" y="1285560"/>
            <a:ext cx="89298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odel światła rozproszone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sność przedmiotu (natężenie światła) równa jest I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st ono jakąś funkcją natężenia światła padającego na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ierzchnię i kąta odbicia </a:t>
            </a:r>
            <a:r>
              <a:rPr b="0" i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= padan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ole tekstowe 19"/>
          <p:cNvSpPr/>
          <p:nvPr/>
        </p:nvSpPr>
        <p:spPr>
          <a:xfrm>
            <a:off x="251640" y="3214800"/>
            <a:ext cx="80766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 zakłada, że natężenie światła odbitego I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d 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st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orcjonalne do „efektywnej powierzchni” widzianej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ez obserwatora Acos(</a:t>
            </a:r>
            <a:r>
              <a:rPr b="0" i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i="1" lang="pl-PL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ole tekstowe 20"/>
          <p:cNvSpPr/>
          <p:nvPr/>
        </p:nvSpPr>
        <p:spPr>
          <a:xfrm>
            <a:off x="1017360" y="4714920"/>
            <a:ext cx="2121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d </a:t>
            </a:r>
            <a:r>
              <a:rPr b="0" i="1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 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i 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s(</a:t>
            </a:r>
            <a:r>
              <a:rPr b="0" i="1" lang="pl-PL" sz="2800" spc="-1" strike="noStrike">
                <a:solidFill>
                  <a:srgbClr val="ffff00"/>
                </a:solidFill>
                <a:latin typeface="Symbol"/>
                <a:ea typeface="Symbol"/>
              </a:rPr>
              <a:t></a:t>
            </a:r>
            <a:r>
              <a:rPr b="0" i="1" lang="pl-PL" sz="18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ole tekstowe 21"/>
          <p:cNvSpPr/>
          <p:nvPr/>
        </p:nvSpPr>
        <p:spPr>
          <a:xfrm>
            <a:off x="216720" y="5357880"/>
            <a:ext cx="46461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czanie cos(</a:t>
            </a:r>
            <a:r>
              <a:rPr b="0" i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i="1" lang="pl-PL" sz="1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jest szybk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s(</a:t>
            </a:r>
            <a:r>
              <a:rPr b="0" i="1" lang="pl-PL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i="1" lang="pl-PL" sz="12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= N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N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N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z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upa 24"/>
          <p:cNvGrpSpPr/>
          <p:nvPr/>
        </p:nvGrpSpPr>
        <p:grpSpPr>
          <a:xfrm>
            <a:off x="223200" y="4071960"/>
            <a:ext cx="8706600" cy="2699280"/>
            <a:chOff x="223200" y="4071960"/>
            <a:chExt cx="8706600" cy="2699280"/>
          </a:xfrm>
        </p:grpSpPr>
        <p:pic>
          <p:nvPicPr>
            <p:cNvPr id="175" name="Obraz 18" descr="Schemat Lambert.jpg"/>
            <p:cNvPicPr/>
            <p:nvPr/>
          </p:nvPicPr>
          <p:blipFill>
            <a:blip r:embed="rId1"/>
            <a:stretch/>
          </p:blipFill>
          <p:spPr>
            <a:xfrm>
              <a:off x="5143680" y="4429080"/>
              <a:ext cx="3786120" cy="22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pole tekstowe 12"/>
            <p:cNvSpPr/>
            <p:nvPr/>
          </p:nvSpPr>
          <p:spPr>
            <a:xfrm>
              <a:off x="223200" y="6402960"/>
              <a:ext cx="4682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 – wektor normalny, L –  promień św. odbite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pole tekstowe 22"/>
            <p:cNvSpPr/>
            <p:nvPr/>
          </p:nvSpPr>
          <p:spPr>
            <a:xfrm>
              <a:off x="6147360" y="40719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pole tekstowe 23"/>
            <p:cNvSpPr/>
            <p:nvPr/>
          </p:nvSpPr>
          <p:spPr>
            <a:xfrm>
              <a:off x="7076160" y="407196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9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9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9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 Phon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3840" y="1285920"/>
            <a:ext cx="892980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odel światła 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pecular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(„zajączek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prowadzony przez Phonga – nie ma podstaw fizycz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ole tekstowe 20"/>
          <p:cNvSpPr/>
          <p:nvPr/>
        </p:nvSpPr>
        <p:spPr>
          <a:xfrm>
            <a:off x="794880" y="2428920"/>
            <a:ext cx="228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s </a:t>
            </a:r>
            <a:r>
              <a:rPr b="0" i="1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 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i 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s</a:t>
            </a:r>
            <a:r>
              <a:rPr b="0" lang="pl-PL" sz="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pl-PL" sz="2800" spc="-1" strike="noStrike" baseline="30000">
                <a:solidFill>
                  <a:srgbClr val="ffc000"/>
                </a:solidFill>
                <a:latin typeface="Times New Roman"/>
                <a:ea typeface="Times New Roman"/>
              </a:rPr>
              <a:t>n</a:t>
            </a:r>
            <a:r>
              <a:rPr b="0" i="1" lang="pl-PL" sz="1200" spc="-1" strike="noStrike" baseline="30000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0" i="1" lang="pl-PL" sz="28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i="1" lang="pl-PL" sz="1800" spc="-1" strike="noStrike">
                <a:solidFill>
                  <a:srgbClr val="ffff00"/>
                </a:solidFill>
                <a:latin typeface="Symbol"/>
                <a:ea typeface="Symbol"/>
              </a:rPr>
              <a:t>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ole tekstowe 21"/>
          <p:cNvSpPr/>
          <p:nvPr/>
        </p:nvSpPr>
        <p:spPr>
          <a:xfrm>
            <a:off x="232920" y="3143160"/>
            <a:ext cx="4091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ametr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kontroluje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„ostrość” zależności od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ąta pod którym oglądamy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gment powierzchni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Obraz 22" descr="Phong_kule.jpg"/>
          <p:cNvPicPr/>
          <p:nvPr/>
        </p:nvPicPr>
        <p:blipFill>
          <a:blip r:embed="rId1"/>
          <a:stretch/>
        </p:blipFill>
        <p:spPr>
          <a:xfrm>
            <a:off x="4643280" y="2714760"/>
            <a:ext cx="4286520" cy="2857320"/>
          </a:xfrm>
          <a:prstGeom prst="rect">
            <a:avLst/>
          </a:prstGeom>
          <a:ln w="0">
            <a:noFill/>
          </a:ln>
        </p:spPr>
      </p:pic>
      <p:sp>
        <p:nvSpPr>
          <p:cNvPr id="184" name="pole tekstowe 23"/>
          <p:cNvSpPr/>
          <p:nvPr/>
        </p:nvSpPr>
        <p:spPr>
          <a:xfrm>
            <a:off x="5376600" y="5715000"/>
            <a:ext cx="358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1, 5, 10, 20, 50,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ole tekstowe 24"/>
          <p:cNvSpPr/>
          <p:nvPr/>
        </p:nvSpPr>
        <p:spPr>
          <a:xfrm>
            <a:off x="520920" y="5357880"/>
            <a:ext cx="31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~ 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_SHIN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upa 31"/>
          <p:cNvGrpSpPr/>
          <p:nvPr/>
        </p:nvGrpSpPr>
        <p:grpSpPr>
          <a:xfrm>
            <a:off x="4643280" y="2357280"/>
            <a:ext cx="4286520" cy="4275000"/>
            <a:chOff x="4643280" y="2357280"/>
            <a:chExt cx="4286520" cy="4275000"/>
          </a:xfrm>
        </p:grpSpPr>
        <p:sp>
          <p:nvSpPr>
            <p:cNvPr id="187" name="pole tekstowe 26"/>
            <p:cNvSpPr/>
            <p:nvPr/>
          </p:nvSpPr>
          <p:spPr>
            <a:xfrm>
              <a:off x="4653720" y="5715360"/>
              <a:ext cx="2840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 – wektor normalny</a:t>
              </a:r>
              <a:br>
                <a:rPr sz="1800"/>
              </a:b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 –  promień św. odbitego</a:t>
              </a:r>
              <a:br>
                <a:rPr sz="1800"/>
              </a:b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 – kierunek do obserwato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Obraz 25" descr="Schemat Pong.jpg"/>
            <p:cNvPicPr/>
            <p:nvPr/>
          </p:nvPicPr>
          <p:blipFill>
            <a:blip r:embed="rId2"/>
            <a:stretch/>
          </p:blipFill>
          <p:spPr>
            <a:xfrm>
              <a:off x="4643280" y="2714400"/>
              <a:ext cx="4286520" cy="29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pole tekstowe 27"/>
            <p:cNvSpPr/>
            <p:nvPr/>
          </p:nvSpPr>
          <p:spPr>
            <a:xfrm>
              <a:off x="6004080" y="23572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pole tekstowe 28"/>
            <p:cNvSpPr/>
            <p:nvPr/>
          </p:nvSpPr>
          <p:spPr>
            <a:xfrm>
              <a:off x="7147440" y="235728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pole tekstowe 29"/>
            <p:cNvSpPr/>
            <p:nvPr/>
          </p:nvSpPr>
          <p:spPr>
            <a:xfrm>
              <a:off x="8362080" y="32860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9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6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9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9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5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ole tekstowe 31"/>
          <p:cNvSpPr/>
          <p:nvPr/>
        </p:nvSpPr>
        <p:spPr>
          <a:xfrm>
            <a:off x="2013480" y="5000760"/>
            <a:ext cx="52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                      </a:t>
            </a:r>
            <a:r>
              <a:rPr b="0" lang="pl-PL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                     =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 oświetlenia Phon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13840" y="1285560"/>
            <a:ext cx="89298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ójkomponentowy model oświetle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5" name="Grupa 19"/>
          <p:cNvGrpSpPr/>
          <p:nvPr/>
        </p:nvGrpSpPr>
        <p:grpSpPr>
          <a:xfrm>
            <a:off x="571680" y="2714760"/>
            <a:ext cx="7815240" cy="1380960"/>
            <a:chOff x="571680" y="2714760"/>
            <a:chExt cx="7815240" cy="1380960"/>
          </a:xfrm>
        </p:grpSpPr>
        <p:pic>
          <p:nvPicPr>
            <p:cNvPr id="196" name="Obraz 8" descr="Phong_ambient.bmp"/>
            <p:cNvPicPr/>
            <p:nvPr/>
          </p:nvPicPr>
          <p:blipFill>
            <a:blip r:embed="rId1"/>
            <a:stretch/>
          </p:blipFill>
          <p:spPr>
            <a:xfrm>
              <a:off x="571680" y="2719440"/>
              <a:ext cx="1485720" cy="13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Obraz 9" descr="Phong_diffuse.bmp"/>
            <p:cNvPicPr/>
            <p:nvPr/>
          </p:nvPicPr>
          <p:blipFill>
            <a:blip r:embed="rId2"/>
            <a:stretch/>
          </p:blipFill>
          <p:spPr>
            <a:xfrm>
              <a:off x="2643120" y="2714760"/>
              <a:ext cx="148572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Obraz 10" descr="Phong_specular.bmp"/>
            <p:cNvPicPr/>
            <p:nvPr/>
          </p:nvPicPr>
          <p:blipFill>
            <a:blip r:embed="rId3"/>
            <a:stretch/>
          </p:blipFill>
          <p:spPr>
            <a:xfrm>
              <a:off x="4786560" y="2719440"/>
              <a:ext cx="1495440" cy="1362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9" name="Grupa 18"/>
            <p:cNvGrpSpPr/>
            <p:nvPr/>
          </p:nvGrpSpPr>
          <p:grpSpPr>
            <a:xfrm>
              <a:off x="2080800" y="2714760"/>
              <a:ext cx="6306120" cy="1380960"/>
              <a:chOff x="2080800" y="2714760"/>
              <a:chExt cx="6306120" cy="1380960"/>
            </a:xfrm>
          </p:grpSpPr>
          <p:pic>
            <p:nvPicPr>
              <p:cNvPr id="200" name="Obraz 14" descr="Phong_complete.bmp"/>
              <p:cNvPicPr/>
              <p:nvPr/>
            </p:nvPicPr>
            <p:blipFill>
              <a:blip r:embed="rId4"/>
              <a:stretch/>
            </p:blipFill>
            <p:spPr>
              <a:xfrm>
                <a:off x="6929640" y="2714760"/>
                <a:ext cx="1457280" cy="138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pole tekstowe 15"/>
              <p:cNvSpPr/>
              <p:nvPr/>
            </p:nvSpPr>
            <p:spPr>
              <a:xfrm>
                <a:off x="2080800" y="3000240"/>
                <a:ext cx="525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4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pole tekstowe 16"/>
              <p:cNvSpPr/>
              <p:nvPr/>
            </p:nvSpPr>
            <p:spPr>
              <a:xfrm>
                <a:off x="4223880" y="3000240"/>
                <a:ext cx="525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4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pole tekstowe 17"/>
              <p:cNvSpPr/>
              <p:nvPr/>
            </p:nvSpPr>
            <p:spPr>
              <a:xfrm>
                <a:off x="6361920" y="3000240"/>
                <a:ext cx="525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l-PL" sz="4800" spc="-1" strike="noStrike">
                    <a:solidFill>
                      <a:srgbClr val="ffffff"/>
                    </a:solidFill>
                    <a:latin typeface="Times New Roman"/>
                    <a:ea typeface="Times New Roman"/>
                  </a:rPr>
                  <a:t>=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ole tekstowe 18"/>
          <p:cNvSpPr/>
          <p:nvPr/>
        </p:nvSpPr>
        <p:spPr>
          <a:xfrm>
            <a:off x="1368360" y="4286160"/>
            <a:ext cx="40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ole tekstowe 19"/>
          <p:cNvSpPr/>
          <p:nvPr/>
        </p:nvSpPr>
        <p:spPr>
          <a:xfrm>
            <a:off x="3440160" y="4286160"/>
            <a:ext cx="40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ole tekstowe 20"/>
          <p:cNvSpPr/>
          <p:nvPr/>
        </p:nvSpPr>
        <p:spPr>
          <a:xfrm>
            <a:off x="5581080" y="4286160"/>
            <a:ext cx="38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i="1" lang="pl-PL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upa 24"/>
          <p:cNvGrpSpPr/>
          <p:nvPr/>
        </p:nvGrpSpPr>
        <p:grpSpPr>
          <a:xfrm>
            <a:off x="939600" y="4286160"/>
            <a:ext cx="4703040" cy="579600"/>
            <a:chOff x="939600" y="4286160"/>
            <a:chExt cx="4703040" cy="579600"/>
          </a:xfrm>
        </p:grpSpPr>
        <p:sp>
          <p:nvSpPr>
            <p:cNvPr id="208" name="pole tekstowe 21"/>
            <p:cNvSpPr/>
            <p:nvPr/>
          </p:nvSpPr>
          <p:spPr>
            <a:xfrm>
              <a:off x="939600" y="4286160"/>
              <a:ext cx="441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pole tekstowe 22"/>
            <p:cNvSpPr/>
            <p:nvPr/>
          </p:nvSpPr>
          <p:spPr>
            <a:xfrm>
              <a:off x="3011400" y="4286160"/>
              <a:ext cx="441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pole tekstowe 23"/>
            <p:cNvSpPr/>
            <p:nvPr/>
          </p:nvSpPr>
          <p:spPr>
            <a:xfrm>
              <a:off x="5224320" y="4286160"/>
              <a:ext cx="418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upa 32"/>
          <p:cNvGrpSpPr/>
          <p:nvPr/>
        </p:nvGrpSpPr>
        <p:grpSpPr>
          <a:xfrm>
            <a:off x="1010880" y="5000760"/>
            <a:ext cx="4060080" cy="579600"/>
            <a:chOff x="1010880" y="5000760"/>
            <a:chExt cx="4060080" cy="579600"/>
          </a:xfrm>
        </p:grpSpPr>
        <p:sp>
          <p:nvSpPr>
            <p:cNvPr id="212" name="pole tekstowe 26"/>
            <p:cNvSpPr/>
            <p:nvPr/>
          </p:nvSpPr>
          <p:spPr>
            <a:xfrm>
              <a:off x="1010880" y="5000760"/>
              <a:ext cx="441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pole tekstowe 27"/>
            <p:cNvSpPr/>
            <p:nvPr/>
          </p:nvSpPr>
          <p:spPr>
            <a:xfrm>
              <a:off x="2511000" y="5000760"/>
              <a:ext cx="441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pole tekstowe 28"/>
            <p:cNvSpPr/>
            <p:nvPr/>
          </p:nvSpPr>
          <p:spPr>
            <a:xfrm>
              <a:off x="4652640" y="5000760"/>
              <a:ext cx="418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upa 30"/>
          <p:cNvGrpSpPr/>
          <p:nvPr/>
        </p:nvGrpSpPr>
        <p:grpSpPr>
          <a:xfrm>
            <a:off x="1368000" y="5000760"/>
            <a:ext cx="5243400" cy="579600"/>
            <a:chOff x="1368000" y="5000760"/>
            <a:chExt cx="5243400" cy="579600"/>
          </a:xfrm>
        </p:grpSpPr>
        <p:sp>
          <p:nvSpPr>
            <p:cNvPr id="216" name="pole tekstowe 12"/>
            <p:cNvSpPr/>
            <p:nvPr/>
          </p:nvSpPr>
          <p:spPr>
            <a:xfrm>
              <a:off x="2914920" y="5000760"/>
              <a:ext cx="1430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 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s(</a:t>
              </a:r>
              <a:r>
                <a:rPr b="0" i="1" lang="pl-PL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pole tekstowe 13"/>
            <p:cNvSpPr/>
            <p:nvPr/>
          </p:nvSpPr>
          <p:spPr>
            <a:xfrm>
              <a:off x="4996440" y="5000760"/>
              <a:ext cx="1614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i 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os</a:t>
              </a:r>
              <a:r>
                <a:rPr b="0" lang="pl-PL" sz="9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pl-PL" sz="28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n</a:t>
              </a:r>
              <a:r>
                <a:rPr b="0" i="1" lang="pl-PL" sz="12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pl-PL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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pole tekstowe 29"/>
            <p:cNvSpPr/>
            <p:nvPr/>
          </p:nvSpPr>
          <p:spPr>
            <a:xfrm>
              <a:off x="1368000" y="5000760"/>
              <a:ext cx="403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i="1" lang="pl-PL" sz="2800" spc="-1" strike="noStrike" baseline="-25000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pole tekstowe 33"/>
          <p:cNvSpPr/>
          <p:nvPr/>
        </p:nvSpPr>
        <p:spPr>
          <a:xfrm>
            <a:off x="642960" y="20718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mb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ole tekstowe 34"/>
          <p:cNvSpPr/>
          <p:nvPr/>
        </p:nvSpPr>
        <p:spPr>
          <a:xfrm>
            <a:off x="2786040" y="20718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diff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ole tekstowe 35"/>
          <p:cNvSpPr/>
          <p:nvPr/>
        </p:nvSpPr>
        <p:spPr>
          <a:xfrm>
            <a:off x="4786200" y="207180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pe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ole tekstowe 36"/>
          <p:cNvSpPr/>
          <p:nvPr/>
        </p:nvSpPr>
        <p:spPr>
          <a:xfrm>
            <a:off x="369360" y="5789520"/>
            <a:ext cx="856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 rzeczywistości (tj. w OpenGL) takie obliczenia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wadzone są osobno dla każdej składowej koloru (RG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e cieniowa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13840" y="1285560"/>
            <a:ext cx="89298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ieniowanie płaskie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jasność określana jest wzorem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nga dla całej płaskiej powierzchni trójkąta w modelu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 przypadku powierzchni płaskich efekt jest „kanciasty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ole tekstowe 9"/>
          <p:cNvSpPr/>
          <p:nvPr/>
        </p:nvSpPr>
        <p:spPr>
          <a:xfrm>
            <a:off x="243360" y="6143760"/>
            <a:ext cx="62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ak kolorować powierzchnie zaokrągl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Obraz 10" descr="Shading_flat.bmp"/>
          <p:cNvPicPr/>
          <p:nvPr/>
        </p:nvPicPr>
        <p:blipFill>
          <a:blip r:embed="rId1"/>
          <a:stretch/>
        </p:blipFill>
        <p:spPr>
          <a:xfrm>
            <a:off x="357120" y="3286080"/>
            <a:ext cx="2571840" cy="2584440"/>
          </a:xfrm>
          <a:prstGeom prst="rect">
            <a:avLst/>
          </a:prstGeom>
          <a:ln w="0">
            <a:noFill/>
          </a:ln>
        </p:spPr>
      </p:pic>
      <p:sp>
        <p:nvSpPr>
          <p:cNvPr id="227" name="pole tekstowe 11"/>
          <p:cNvSpPr/>
          <p:nvPr/>
        </p:nvSpPr>
        <p:spPr>
          <a:xfrm>
            <a:off x="4705560" y="3357720"/>
            <a:ext cx="376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datkowo niekorzystny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ekt  pasm Ma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Obraz 14" descr="pasma Macha.jpg"/>
          <p:cNvPicPr/>
          <p:nvPr/>
        </p:nvPicPr>
        <p:blipFill>
          <a:blip r:embed="rId2"/>
          <a:stretch/>
        </p:blipFill>
        <p:spPr>
          <a:xfrm>
            <a:off x="5857920" y="4429080"/>
            <a:ext cx="256212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9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9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gadnienia grafiki 3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0040" y="1356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owe zagadnienia grafiki 3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Modelowani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budowanie modeli obiektów (ze świata realnego) za pomocą przestrzennych figur geometrycznych (trójkątów, wielokątów).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ość trójkątów – jakość modelowania (realizm) – wymagany sprzę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Animacja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ruch obiektów – zmiana położenia w poszczególnych kadrach (renderowanych statycznych scena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Renderowani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techniczne aspekty przygotowania sceny (alg. rys. linii, bufor głębii, antyaliasing itp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e cieniowa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13840" y="1285560"/>
            <a:ext cx="89298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ieniowanie Phonga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obliczenia koloru dla każdego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nktu trójkąta z wektorem normalnym wyznaczonym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 podstawie interpolacji na bazie trzech wektorów normalnych przypisanych do każdego wierzchołka trójką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Obraz 9" descr="Shading_Phong.bmp"/>
          <p:cNvPicPr/>
          <p:nvPr/>
        </p:nvPicPr>
        <p:blipFill>
          <a:blip r:embed="rId1"/>
          <a:stretch/>
        </p:blipFill>
        <p:spPr>
          <a:xfrm>
            <a:off x="3071880" y="3286080"/>
            <a:ext cx="2714400" cy="2602080"/>
          </a:xfrm>
          <a:prstGeom prst="rect">
            <a:avLst/>
          </a:prstGeom>
          <a:ln w="0">
            <a:noFill/>
          </a:ln>
        </p:spPr>
      </p:pic>
      <p:pic>
        <p:nvPicPr>
          <p:cNvPr id="232" name="Obraz 10" descr="Shading_flat.bmp"/>
          <p:cNvPicPr/>
          <p:nvPr/>
        </p:nvPicPr>
        <p:blipFill>
          <a:blip r:embed="rId2"/>
          <a:stretch/>
        </p:blipFill>
        <p:spPr>
          <a:xfrm>
            <a:off x="357120" y="3286080"/>
            <a:ext cx="2571840" cy="2584440"/>
          </a:xfrm>
          <a:prstGeom prst="rect">
            <a:avLst/>
          </a:prstGeom>
          <a:ln w="0">
            <a:noFill/>
          </a:ln>
        </p:spPr>
      </p:pic>
      <p:sp>
        <p:nvSpPr>
          <p:cNvPr id="233" name="pole tekstowe 11"/>
          <p:cNvSpPr/>
          <p:nvPr/>
        </p:nvSpPr>
        <p:spPr>
          <a:xfrm>
            <a:off x="1076760" y="600084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łask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ole tekstowe 12"/>
          <p:cNvSpPr/>
          <p:nvPr/>
        </p:nvSpPr>
        <p:spPr>
          <a:xfrm>
            <a:off x="3934440" y="6000840"/>
            <a:ext cx="10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Obraz 9" descr="06 Cieniowanie.bmp"/>
          <p:cNvPicPr/>
          <p:nvPr/>
        </p:nvPicPr>
        <p:blipFill>
          <a:blip r:embed="rId1"/>
          <a:stretch/>
        </p:blipFill>
        <p:spPr>
          <a:xfrm>
            <a:off x="285840" y="3500280"/>
            <a:ext cx="5143320" cy="29559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e cieniowa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13840" y="1285560"/>
            <a:ext cx="89298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eniowanie Gourauda – kolor punktu na prymitywie uzyskiwany jest przez interpolację składowych koloru jego wierzchołków (tylko te wyznaczane są np. wzorem Phong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niej wymagający numerycznie, ale też mniej realistycz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Obraz 5" descr="Gouraud_flat.jpg"/>
          <p:cNvPicPr/>
          <p:nvPr/>
        </p:nvPicPr>
        <p:blipFill>
          <a:blip r:embed="rId2"/>
          <a:stretch/>
        </p:blipFill>
        <p:spPr>
          <a:xfrm>
            <a:off x="4429080" y="3500280"/>
            <a:ext cx="1965240" cy="1571760"/>
          </a:xfrm>
          <a:prstGeom prst="rect">
            <a:avLst/>
          </a:prstGeom>
          <a:ln w="0">
            <a:noFill/>
          </a:ln>
        </p:spPr>
      </p:pic>
      <p:pic>
        <p:nvPicPr>
          <p:cNvPr id="239" name="Obraz 6" descr="Gouraud_lisse.jpg"/>
          <p:cNvPicPr/>
          <p:nvPr/>
        </p:nvPicPr>
        <p:blipFill>
          <a:blip r:embed="rId3"/>
          <a:stretch/>
        </p:blipFill>
        <p:spPr>
          <a:xfrm>
            <a:off x="6572160" y="3500280"/>
            <a:ext cx="1965240" cy="1571760"/>
          </a:xfrm>
          <a:prstGeom prst="rect">
            <a:avLst/>
          </a:prstGeom>
          <a:ln w="0">
            <a:noFill/>
          </a:ln>
        </p:spPr>
      </p:pic>
      <p:grpSp>
        <p:nvGrpSpPr>
          <p:cNvPr id="240" name="Grupa 11"/>
          <p:cNvGrpSpPr/>
          <p:nvPr/>
        </p:nvGrpSpPr>
        <p:grpSpPr>
          <a:xfrm>
            <a:off x="243000" y="3500280"/>
            <a:ext cx="5796720" cy="2235600"/>
            <a:chOff x="243000" y="3500280"/>
            <a:chExt cx="5796720" cy="2235600"/>
          </a:xfrm>
        </p:grpSpPr>
        <p:pic>
          <p:nvPicPr>
            <p:cNvPr id="241" name="Obraz 3" descr="Gouraud_sgouraud1.jpg"/>
            <p:cNvPicPr/>
            <p:nvPr/>
          </p:nvPicPr>
          <p:blipFill>
            <a:blip r:embed="rId4"/>
            <a:stretch/>
          </p:blipFill>
          <p:spPr>
            <a:xfrm>
              <a:off x="285480" y="3500280"/>
              <a:ext cx="1905120" cy="155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Obraz 4" descr="Gouraud_sgouraud2.jpg"/>
            <p:cNvPicPr/>
            <p:nvPr/>
          </p:nvPicPr>
          <p:blipFill>
            <a:blip r:embed="rId5"/>
            <a:stretch/>
          </p:blipFill>
          <p:spPr>
            <a:xfrm>
              <a:off x="2214360" y="3500280"/>
              <a:ext cx="2041200" cy="157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pole tekstowe 8"/>
            <p:cNvSpPr/>
            <p:nvPr/>
          </p:nvSpPr>
          <p:spPr>
            <a:xfrm>
              <a:off x="243000" y="5215320"/>
              <a:ext cx="579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odel to żona Henri Gourauda, Sylvie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pole tekstowe 12"/>
          <p:cNvSpPr/>
          <p:nvPr/>
        </p:nvSpPr>
        <p:spPr>
          <a:xfrm>
            <a:off x="232200" y="5715000"/>
            <a:ext cx="665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da: wyraźnie widać granicę użytych figur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ymaga gęstszej sieci niż met. Phong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3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9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9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9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ole tekstowe 10"/>
          <p:cNvSpPr/>
          <p:nvPr/>
        </p:nvSpPr>
        <p:spPr>
          <a:xfrm>
            <a:off x="324720" y="3857760"/>
            <a:ext cx="8167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liczenia rekurencyj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żywane w metodzie śledzenia promieni (</a:t>
            </a:r>
            <a:r>
              <a:rPr b="0" i="1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ray tracing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oli wchodzi do silników graficznych działając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w czasie rzeczywisty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ycznie generuje także cienie obiektów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rzucane na inne powierzchnie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e cieniowa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13840" y="1285560"/>
            <a:ext cx="89298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Cieniowanie global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im Kajiya, 1986 (Microsof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520" indent="-164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y obliczaniu składowych światła odbitego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względnia nie tylko światło pochodzące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e źródeł, ale również odbite od innych p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Obraz 6" descr="Jim_Kajiya.jpg"/>
          <p:cNvPicPr/>
          <p:nvPr/>
        </p:nvPicPr>
        <p:blipFill>
          <a:blip r:embed="rId1"/>
          <a:stretch/>
        </p:blipFill>
        <p:spPr>
          <a:xfrm>
            <a:off x="7000920" y="1357200"/>
            <a:ext cx="1915920" cy="2657520"/>
          </a:xfrm>
          <a:prstGeom prst="rect">
            <a:avLst/>
          </a:prstGeom>
          <a:ln w="0">
            <a:noFill/>
          </a:ln>
        </p:spPr>
      </p:pic>
      <p:grpSp>
        <p:nvGrpSpPr>
          <p:cNvPr id="249" name="Grupa 9"/>
          <p:cNvGrpSpPr/>
          <p:nvPr/>
        </p:nvGrpSpPr>
        <p:grpSpPr>
          <a:xfrm>
            <a:off x="214200" y="3929040"/>
            <a:ext cx="8929800" cy="2469960"/>
            <a:chOff x="214200" y="3929040"/>
            <a:chExt cx="8929800" cy="2469960"/>
          </a:xfrm>
        </p:grpSpPr>
        <p:sp>
          <p:nvSpPr>
            <p:cNvPr id="250" name="Prostokąt 7"/>
            <p:cNvSpPr/>
            <p:nvPr/>
          </p:nvSpPr>
          <p:spPr>
            <a:xfrm>
              <a:off x="214200" y="5088240"/>
              <a:ext cx="892980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– sumaryczna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intens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ywność (składowe koloru) w punkcie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z punktu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= 0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jeśli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i="1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‘ są przesłonięte, =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/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</a:t>
              </a:r>
              <a:r>
                <a:rPr b="0" i="1" lang="pl-PL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 przeciwnym wypadku,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=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dl. między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unktami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–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tens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ywność emitowana przez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 d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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'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'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–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tens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ywność światła odbitego z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'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o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zez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'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 </a:t>
              </a:r>
              <a:r>
                <a:rPr b="0" lang="pl-PL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– wszystkie punkty na wszystkich powierzchniach odbijających światł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1" name="Object 2"/>
                <p:cNvSpPr txBox="1"/>
                <p:nvPr/>
              </p:nvSpPr>
              <p:spPr>
                <a:xfrm>
                  <a:off x="285480" y="3929040"/>
                  <a:ext cx="6429600" cy="102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t xml:space="preserve">'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g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'</m:t>
                          </m:r>
                        </m:sup>
                      </m:sSup>
                      <m:r>
                        <m:t xml:space="preserve">)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ε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S</m:t>
                              </m:r>
                            </m:sub>
                            <m:sup/>
                            <m:e>
                              <m:r>
                                <m:t xml:space="preserve">ρ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</m:sup>
                              </m:sSup>
                              <m:r>
                                <m:t xml:space="preserve">,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'</m:t>
                                  </m:r>
                                  <m:r>
                                    <m:t xml:space="preserve">'</m:t>
                                  </m:r>
                                </m:sup>
                              </m:sSup>
                            </m:e>
                          </m:nary>
                          <m:r>
                            <m:t xml:space="preserve">)</m:t>
                          </m:r>
                          <m:r>
                            <m:t xml:space="preserve">I</m:t>
                          </m:r>
                          <m:r>
                            <m:t xml:space="preserve">(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,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  <m:r>
                                <m:t xml:space="preserve">'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d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'</m:t>
                              </m:r>
                              <m:r>
                                <m:t xml:space="preserve">'</m:t>
                              </m:r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9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9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ykładu użycia 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y tra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Obraz 11" descr="ray_tracing_3_of_them.png"/>
          <p:cNvPicPr/>
          <p:nvPr/>
        </p:nvPicPr>
        <p:blipFill>
          <a:blip r:embed="rId1"/>
          <a:stretch/>
        </p:blipFill>
        <p:spPr>
          <a:xfrm>
            <a:off x="1571760" y="1428840"/>
            <a:ext cx="6143400" cy="4606920"/>
          </a:xfrm>
          <a:prstGeom prst="rect">
            <a:avLst/>
          </a:prstGeom>
          <a:ln w="0">
            <a:noFill/>
          </a:ln>
        </p:spPr>
      </p:pic>
      <p:pic>
        <p:nvPicPr>
          <p:cNvPr id="254" name="Obraz 14" descr="ray_tracing_frame.jpg"/>
          <p:cNvPicPr/>
          <p:nvPr/>
        </p:nvPicPr>
        <p:blipFill>
          <a:blip r:embed="rId2"/>
          <a:stretch/>
        </p:blipFill>
        <p:spPr>
          <a:xfrm>
            <a:off x="2143080" y="1428840"/>
            <a:ext cx="4643640" cy="4643280"/>
          </a:xfrm>
          <a:prstGeom prst="rect">
            <a:avLst/>
          </a:prstGeom>
          <a:ln w="0">
            <a:noFill/>
          </a:ln>
        </p:spPr>
      </p:pic>
      <p:pic>
        <p:nvPicPr>
          <p:cNvPr id="255" name="Symbol zastępczy zawartości 3" descr="Glasses_800.png"/>
          <p:cNvPicPr/>
          <p:nvPr/>
        </p:nvPicPr>
        <p:blipFill>
          <a:blip r:embed="rId3"/>
          <a:stretch/>
        </p:blipFill>
        <p:spPr>
          <a:xfrm>
            <a:off x="1643040" y="1357200"/>
            <a:ext cx="6000840" cy="4500720"/>
          </a:xfrm>
          <a:prstGeom prst="rect">
            <a:avLst/>
          </a:prstGeom>
          <a:ln w="0">
            <a:noFill/>
          </a:ln>
        </p:spPr>
      </p:pic>
      <p:pic>
        <p:nvPicPr>
          <p:cNvPr id="256" name="Obraz 7" descr="alchlab-big.jpg"/>
          <p:cNvPicPr/>
          <p:nvPr/>
        </p:nvPicPr>
        <p:blipFill>
          <a:blip r:embed="rId4"/>
          <a:stretch/>
        </p:blipFill>
        <p:spPr>
          <a:xfrm>
            <a:off x="1643040" y="13572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257" name="Obraz 10" descr="chado.jpg"/>
          <p:cNvPicPr/>
          <p:nvPr/>
        </p:nvPicPr>
        <p:blipFill>
          <a:blip r:embed="rId5"/>
          <a:stretch/>
        </p:blipFill>
        <p:spPr>
          <a:xfrm>
            <a:off x="1643040" y="1357200"/>
            <a:ext cx="6094440" cy="4572000"/>
          </a:xfrm>
          <a:prstGeom prst="rect">
            <a:avLst/>
          </a:prstGeom>
          <a:ln w="0">
            <a:noFill/>
          </a:ln>
        </p:spPr>
      </p:pic>
      <p:sp>
        <p:nvSpPr>
          <p:cNvPr id="258" name="pole tekstowe 8"/>
          <p:cNvSpPr/>
          <p:nvPr/>
        </p:nvSpPr>
        <p:spPr>
          <a:xfrm>
            <a:off x="3288240" y="628668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Źródło: </a:t>
            </a:r>
            <a:r>
              <a:rPr b="0" lang="pl-PL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hof.povray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5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9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7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9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9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9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1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9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 dalej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57120" y="1285920"/>
            <a:ext cx="8786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dium przypadku: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wizualizacja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unkcji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Fizyka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zbioru punktów materialnych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układ słoneczny, lina, symulacja lot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czytywanie obiektów z plik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Stencil Buffer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lustro, cienie rzucane przez obiek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xelShader, VertexSh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zykład modelowa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Symbol zastępczy zawartości 3" descr="Glasses_800.png"/>
          <p:cNvPicPr/>
          <p:nvPr/>
        </p:nvPicPr>
        <p:blipFill>
          <a:blip r:embed="rId1"/>
          <a:stretch/>
        </p:blipFill>
        <p:spPr>
          <a:xfrm>
            <a:off x="1571760" y="185724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pole tekstowe 4"/>
          <p:cNvSpPr/>
          <p:nvPr/>
        </p:nvSpPr>
        <p:spPr>
          <a:xfrm>
            <a:off x="2169000" y="1071720"/>
            <a:ext cx="49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(niestety to nie OpenGL lub DirectX, a </a:t>
            </a:r>
            <a:r>
              <a:rPr b="0" i="1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ray tracing</a:t>
            </a:r>
            <a:r>
              <a:rPr b="0" lang="pl-PL" sz="1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owanie: wierzchoł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28760" y="1428840"/>
            <a:ext cx="8501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owe pojęcia grafiki 3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Vertex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wierzchołek figury 2D lub 3D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Verte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element siatki rozpiętej w 3D, która jest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bazą renderowanej sceny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 wierzchołkiem mogą być związane m.in.: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kolor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Color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ub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normalna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Normal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współrzędna tekstury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TexCoord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2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ole tekstowe 3"/>
          <p:cNvSpPr/>
          <p:nvPr/>
        </p:nvSpPr>
        <p:spPr>
          <a:xfrm>
            <a:off x="565200" y="5929200"/>
            <a:ext cx="824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kcje OpenGL: </a:t>
            </a:r>
            <a:r>
              <a:rPr b="0" lang="pl-P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Vertex</a:t>
            </a:r>
            <a:r>
              <a:rPr b="0" lang="pl-PL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{234}{sfid}[v]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GLType współrzęd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28760" y="1428840"/>
            <a:ext cx="8501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owe pojęcia grafiki 3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Primitiwy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figury zbudowane z vertexów, dwustronny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obiekt modelowany jest z tysięcy trójkątów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Begi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 prymitiwu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Verte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półrzędn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br>
              <a:rPr sz="2800"/>
            </a:b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Verte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spółrzędn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;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End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Grupa 7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pic>
          <p:nvPicPr>
            <p:cNvPr id="62" name="Obraz 4" descr="vertexy0.bmp"/>
            <p:cNvPicPr/>
            <p:nvPr/>
          </p:nvPicPr>
          <p:blipFill>
            <a:blip r:embed="rId1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pole tekstowe 6"/>
            <p:cNvSpPr/>
            <p:nvPr/>
          </p:nvSpPr>
          <p:spPr>
            <a:xfrm>
              <a:off x="6081480" y="5858280"/>
              <a:ext cx="200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zbiór wierzchołkó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owanie: primitiw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upa 9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pic>
          <p:nvPicPr>
            <p:cNvPr id="66" name="Obraz 5" descr="vertexy1_points.bmp"/>
            <p:cNvPicPr/>
            <p:nvPr/>
          </p:nvPicPr>
          <p:blipFill>
            <a:blip r:embed="rId2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pole tekstowe 8"/>
            <p:cNvSpPr/>
            <p:nvPr/>
          </p:nvSpPr>
          <p:spPr>
            <a:xfrm>
              <a:off x="6437880" y="5858280"/>
              <a:ext cx="139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upa 14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sp>
          <p:nvSpPr>
            <p:cNvPr id="69" name="pole tekstowe 12"/>
            <p:cNvSpPr/>
            <p:nvPr/>
          </p:nvSpPr>
          <p:spPr>
            <a:xfrm>
              <a:off x="6436440" y="5858280"/>
              <a:ext cx="124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LIN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Obraz 13" descr="vertexy2_lines.bmp"/>
            <p:cNvPicPr/>
            <p:nvPr/>
          </p:nvPicPr>
          <p:blipFill>
            <a:blip r:embed="rId3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Grupa 23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pic>
          <p:nvPicPr>
            <p:cNvPr id="72" name="Obraz 15" descr="vertexy3_line_strip.bmp"/>
            <p:cNvPicPr/>
            <p:nvPr/>
          </p:nvPicPr>
          <p:blipFill>
            <a:blip r:embed="rId4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pole tekstowe 22"/>
            <p:cNvSpPr/>
            <p:nvPr/>
          </p:nvSpPr>
          <p:spPr>
            <a:xfrm>
              <a:off x="6224760" y="5858280"/>
              <a:ext cx="18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LINE_STR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upa 26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pic>
          <p:nvPicPr>
            <p:cNvPr id="75" name="Obraz 16" descr="vertexy4_line_loop.bmp"/>
            <p:cNvPicPr/>
            <p:nvPr/>
          </p:nvPicPr>
          <p:blipFill>
            <a:blip r:embed="rId5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pole tekstowe 24"/>
            <p:cNvSpPr/>
            <p:nvPr/>
          </p:nvSpPr>
          <p:spPr>
            <a:xfrm>
              <a:off x="6225120" y="5858280"/>
              <a:ext cx="18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LINE_LO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upa 28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pic>
          <p:nvPicPr>
            <p:cNvPr id="78" name="Obraz 17" descr="vertexy5_triangles.bmp"/>
            <p:cNvPicPr/>
            <p:nvPr/>
          </p:nvPicPr>
          <p:blipFill>
            <a:blip r:embed="rId6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pole tekstowe 27"/>
            <p:cNvSpPr/>
            <p:nvPr/>
          </p:nvSpPr>
          <p:spPr>
            <a:xfrm>
              <a:off x="6161040" y="5858280"/>
              <a:ext cx="186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TRIANG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upa 31"/>
          <p:cNvGrpSpPr/>
          <p:nvPr/>
        </p:nvGrpSpPr>
        <p:grpSpPr>
          <a:xfrm>
            <a:off x="5870880" y="3786120"/>
            <a:ext cx="2478960" cy="2440440"/>
            <a:chOff x="5870880" y="3786120"/>
            <a:chExt cx="2478960" cy="2440440"/>
          </a:xfrm>
        </p:grpSpPr>
        <p:pic>
          <p:nvPicPr>
            <p:cNvPr id="81" name="Obraz 18" descr="vertexy6_triangle_strip.bmp"/>
            <p:cNvPicPr/>
            <p:nvPr/>
          </p:nvPicPr>
          <p:blipFill>
            <a:blip r:embed="rId7"/>
            <a:stretch/>
          </p:blipFill>
          <p:spPr>
            <a:xfrm>
              <a:off x="6072120" y="3786120"/>
              <a:ext cx="204732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pole tekstowe 29"/>
            <p:cNvSpPr/>
            <p:nvPr/>
          </p:nvSpPr>
          <p:spPr>
            <a:xfrm>
              <a:off x="5870880" y="5858280"/>
              <a:ext cx="247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TRIANGLE_STR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upa 33"/>
          <p:cNvGrpSpPr/>
          <p:nvPr/>
        </p:nvGrpSpPr>
        <p:grpSpPr>
          <a:xfrm>
            <a:off x="5934240" y="3786120"/>
            <a:ext cx="2312640" cy="2440440"/>
            <a:chOff x="5934240" y="3786120"/>
            <a:chExt cx="2312640" cy="2440440"/>
          </a:xfrm>
        </p:grpSpPr>
        <p:pic>
          <p:nvPicPr>
            <p:cNvPr id="84" name="Obraz 19" descr="vertexy7_triangle_fan.bmp"/>
            <p:cNvPicPr/>
            <p:nvPr/>
          </p:nvPicPr>
          <p:blipFill>
            <a:blip r:embed="rId8"/>
            <a:stretch/>
          </p:blipFill>
          <p:spPr>
            <a:xfrm>
              <a:off x="6066000" y="3786120"/>
              <a:ext cx="204876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pole tekstowe 32"/>
            <p:cNvSpPr/>
            <p:nvPr/>
          </p:nvSpPr>
          <p:spPr>
            <a:xfrm>
              <a:off x="5934240" y="5858280"/>
              <a:ext cx="2312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TRIANGLE_F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upa 35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pic>
          <p:nvPicPr>
            <p:cNvPr id="87" name="Obraz 20" descr="vertexy8_quads.bmp"/>
            <p:cNvPicPr/>
            <p:nvPr/>
          </p:nvPicPr>
          <p:blipFill>
            <a:blip r:embed="rId9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pole tekstowe 34"/>
            <p:cNvSpPr/>
            <p:nvPr/>
          </p:nvSpPr>
          <p:spPr>
            <a:xfrm>
              <a:off x="6403680" y="5858280"/>
              <a:ext cx="138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QUA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upa 36"/>
          <p:cNvGrpSpPr/>
          <p:nvPr/>
        </p:nvGrpSpPr>
        <p:grpSpPr>
          <a:xfrm>
            <a:off x="6072120" y="3786120"/>
            <a:ext cx="2091240" cy="2440440"/>
            <a:chOff x="6072120" y="3786120"/>
            <a:chExt cx="2091240" cy="2440440"/>
          </a:xfrm>
        </p:grpSpPr>
        <p:pic>
          <p:nvPicPr>
            <p:cNvPr id="90" name="Obraz 21" descr="vertexy9_quad_strip.bmp"/>
            <p:cNvPicPr/>
            <p:nvPr/>
          </p:nvPicPr>
          <p:blipFill>
            <a:blip r:embed="rId10"/>
            <a:stretch/>
          </p:blipFill>
          <p:spPr>
            <a:xfrm>
              <a:off x="6072120" y="3786120"/>
              <a:ext cx="204768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pole tekstowe 25"/>
            <p:cNvSpPr/>
            <p:nvPr/>
          </p:nvSpPr>
          <p:spPr>
            <a:xfrm>
              <a:off x="6168960" y="585828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QUAD_STRI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upa 39"/>
          <p:cNvGrpSpPr/>
          <p:nvPr/>
        </p:nvGrpSpPr>
        <p:grpSpPr>
          <a:xfrm>
            <a:off x="6072120" y="3786120"/>
            <a:ext cx="2048040" cy="2440440"/>
            <a:chOff x="6072120" y="3786120"/>
            <a:chExt cx="2048040" cy="2440440"/>
          </a:xfrm>
        </p:grpSpPr>
        <p:pic>
          <p:nvPicPr>
            <p:cNvPr id="93" name="Obraz 37" descr="vertexyA_polygon.bmp"/>
            <p:cNvPicPr/>
            <p:nvPr/>
          </p:nvPicPr>
          <p:blipFill>
            <a:blip r:embed="rId11"/>
            <a:stretch/>
          </p:blipFill>
          <p:spPr>
            <a:xfrm>
              <a:off x="6072120" y="3786120"/>
              <a:ext cx="2048040" cy="198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pole tekstowe 38"/>
            <p:cNvSpPr/>
            <p:nvPr/>
          </p:nvSpPr>
          <p:spPr>
            <a:xfrm>
              <a:off x="6285600" y="58582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GL_POLYG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ole tekstowe 40"/>
          <p:cNvSpPr/>
          <p:nvPr/>
        </p:nvSpPr>
        <p:spPr>
          <a:xfrm>
            <a:off x="4576680" y="5286240"/>
            <a:ext cx="132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ypukł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z przecię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ole tekstowe 41"/>
          <p:cNvSpPr/>
          <p:nvPr/>
        </p:nvSpPr>
        <p:spPr>
          <a:xfrm>
            <a:off x="814680" y="6286680"/>
            <a:ext cx="808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żywanie trójkątów (i pasów): najbardziej wydajne numerycznie, zmniejsza artefak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9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9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elowanie: pot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8760" y="142848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owe pojęcia grafiki 3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tok (ang. </a:t>
            </a: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pipelin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– ciąg przekształceń macierzy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(sprzętowo zrównoleglone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dane wejściow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wierzchołki 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tices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w 3D </a:t>
            </a:r>
            <a:br>
              <a:rPr sz="2800"/>
            </a:b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transformacj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translacje, obroty (m. model-widok),</a:t>
            </a:r>
            <a:br>
              <a:rPr sz="2800"/>
            </a:b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obcięcia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frustum (ograniczenie ilości wierzchołków)</a:t>
            </a:r>
            <a:br>
              <a:rPr sz="2800"/>
            </a:b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rzutowani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macierz rzutowania + mieszanie kolorów</a:t>
            </a:r>
            <a:br>
              <a:rPr sz="2800"/>
            </a:b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wynik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piksele obrazu 2D (współrzędne ekran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8760" y="1428480"/>
            <a:ext cx="8501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stawowe pojęcia grafiki 3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Transformacj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określane we współrzędnych sceny 3D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lacja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Translat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obrót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Rotat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alowanie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Scal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pochylenie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łożenie – dowolna macierz 4x4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MultMatri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 muszą być ustalone </a:t>
            </a:r>
            <a:br>
              <a:rPr sz="2800"/>
            </a:br>
            <a:r>
              <a:rPr b="0" lang="pl-PL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zed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arysowaniem wierzchołka, np..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Rotate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5.0f, 0.0f, 1.0f, 0.0f); //kąt, kierunek os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Verte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3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…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 są wykonywane „od końc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760" y="1428840"/>
            <a:ext cx="8501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Współrzędne jednorodn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mogenous coordinates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prowadzone w 1946 przez E. Maxwella (rzutowani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 1965 L. Roberts użył ich do zunifikowania zapisu wszystkich transformacji: translacji, obrotów, skalowanie i pochyl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is punktów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wymiarowej przestrzeni za pomocą </a:t>
            </a:r>
            <a:r>
              <a:rPr b="0" i="1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1 współrzędny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cinanie we współrzędnych jednorodnych może odbywać się w sześcianie zamiast w ściętym ostrosłupie (znacznie efektywniejsze numeryczni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formac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28760" y="1428480"/>
            <a:ext cx="850104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 współrzędnych kartezjańskich (2D)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ót i translacja mogą być zapisa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2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3"/>
              <p:cNvSpPr txBox="1"/>
              <p:nvPr/>
            </p:nvSpPr>
            <p:spPr>
              <a:xfrm>
                <a:off x="857160" y="2357280"/>
                <a:ext cx="691056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O</m:t>
                        </m:r>
                      </m:e>
                    </m:acc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T</m:t>
                        </m:r>
                      </m:e>
                    </m:acc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o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yy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8" name="pole tekstowe 5"/>
          <p:cNvSpPr/>
          <p:nvPr/>
        </p:nvSpPr>
        <p:spPr>
          <a:xfrm>
            <a:off x="571680" y="5715000"/>
            <a:ext cx="900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korzystaniu ze współrzędnych jednorodnych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(</a:t>
            </a:r>
            <a:r>
              <a:rPr b="0" lang="pl-PL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lMultMatrix</a:t>
            </a:r>
            <a:r>
              <a:rPr b="0" lang="pl-PL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f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w osobnej prezentacj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upa 10"/>
          <p:cNvGrpSpPr/>
          <p:nvPr/>
        </p:nvGrpSpPr>
        <p:grpSpPr>
          <a:xfrm>
            <a:off x="352080" y="3643200"/>
            <a:ext cx="6886800" cy="1785960"/>
            <a:chOff x="352080" y="3643200"/>
            <a:chExt cx="6886800" cy="1785960"/>
          </a:xfrm>
        </p:grpSpPr>
        <p:sp>
          <p:nvSpPr>
            <p:cNvPr id="110" name="pole tekstowe 6"/>
            <p:cNvSpPr/>
            <p:nvPr/>
          </p:nvSpPr>
          <p:spPr>
            <a:xfrm>
              <a:off x="352080" y="3643200"/>
              <a:ext cx="533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pl-PL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e współrzędnych jednorodnych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" name="Object 6"/>
                <p:cNvSpPr txBox="1"/>
                <p:nvPr/>
              </p:nvSpPr>
              <p:spPr>
                <a:xfrm>
                  <a:off x="833400" y="4143240"/>
                  <a:ext cx="6405480" cy="128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y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r>
                        <m:t xml:space="preserve">H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y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x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y</m:t>
                                    </m:r>
                                  </m:sub>
                                </m:sSub>
                              </m:e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  <m:r>
                        <m:t xml:space="preserve">=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x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x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yy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9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38:26Z</dcterms:created>
  <dc:creator>Jacek Matulewski</dc:creator>
  <dc:description/>
  <dc:language>en-US</dc:language>
  <cp:lastModifiedBy>Jacek Matulewski</cp:lastModifiedBy>
  <dcterms:modified xsi:type="dcterms:W3CDTF">2009-05-25T14:28:49Z</dcterms:modified>
  <cp:revision>116</cp:revision>
  <dc:subject/>
  <dc:title>Grafika 3D</dc:title>
</cp:coreProperties>
</file>